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03BF-ED6B-49ED-AFEC-968C68F9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1D0F-5DEC-4029-A424-EF274929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A23B-2D1A-42CB-9164-EBBA2E58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020D-D713-4CE4-83F8-7AF84408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E2C8-BD3C-4AC0-AD9B-DC73ABB5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462E-1EFB-46E8-9299-E73F382D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16D7-E5D2-4241-BDE9-0A0E6FE0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9D88-7546-4C57-8D84-C069B70F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6E07-8955-403B-B9C5-9AE24FD5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9345-F165-4452-88DA-4567848B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8A36-0AEC-4490-AC9F-6FC76F32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BEAC-DC21-4137-85A9-6F797287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F965-F361-49E4-9682-671825DA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5B71-6764-400A-9ED0-A449A893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19AD-A433-482C-8060-795DD2BB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E5A8-1500-4C58-92D2-F5D5035E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F302-8B5A-4542-B48F-7833D218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D2A3-C6E0-475C-8C41-F8AC00BE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4FFA-3CA2-4D67-8E9E-7D37C924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C0BA-2F0A-4405-8AE8-86CFA404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47FC-418E-4118-A89C-DD66DB6A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5DCF-0523-4BD7-9F81-C834EC91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2995-2CC3-402E-925D-1E872463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F26E-9477-46E8-A741-E2DC00E6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B3EA-77E1-4423-8FF3-6A84089F975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9C28-75F0-4B1B-AF32-97C8B53A16F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42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Times New Roman"/>
              </a:rPr>
              <a:t>MANIPULAREA</a:t>
            </a:r>
            <a:r>
              <a:rPr b="0" lang="en-US" sz="48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1"/>
          <a:stretch/>
        </p:blipFill>
        <p:spPr>
          <a:xfrm>
            <a:off x="5796000" y="2997360"/>
            <a:ext cx="285732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0" y="1844640"/>
            <a:ext cx="9144000" cy="41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cceptaţi 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ierderile pe termen scurt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uneţi 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„piciorul în prag”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când sunteţi nemulţumiţi sau agasaţi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nsistaţi cu 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întrebările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până ce vă lămuriţi complet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escifraţi sensurile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ascunse ale lucrurilor sau situaţiilor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dentificaţi principalii 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genţi de influenţă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ai grupului într-un anturaj nou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vitaţi 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ituaţiile nu vă puteţi manifesta libertatea de acţiune sau de 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xprimare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190880" y="785880"/>
            <a:ext cx="70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5b5249"/>
                </a:solidFill>
                <a:latin typeface="Times New Roman"/>
              </a:rPr>
              <a:t>Tehnici de rezistenţă la manipular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609480" y="1916280"/>
            <a:ext cx="853452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</a:rPr>
              <a:t>detaşaţi-vă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emoţional;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</a:rPr>
              <a:t>acţionaţi şi luaţi decizii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pe deplin conştienţi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</a:rPr>
              <a:t>acceptaţi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schimbul de idei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</a:rPr>
              <a:t>identificaţi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momentele în care simţiţi un sentiment de vină şi 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încercaţi să-i aflaţi originea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1190880" y="785880"/>
            <a:ext cx="70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5b5249"/>
                </a:solidFill>
                <a:latin typeface="Times New Roman"/>
              </a:rPr>
              <a:t>Tehnici de rezistenţă la manipular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533520" y="1557360"/>
            <a:ext cx="861048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buClr>
                <a:srgbClr val="9e06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9e0623"/>
                </a:solidFill>
                <a:latin typeface="Times New Roman"/>
              </a:rPr>
              <a:t>NU 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acordaţi credit soluţiilor simple în cazul unor probleme 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personale, sociale sau politice complexe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800"/>
              </a:spcBef>
              <a:buClr>
                <a:srgbClr val="9e06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9e0623"/>
                </a:solidFill>
                <a:latin typeface="Times New Roman"/>
              </a:rPr>
              <a:t>NU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există prietenie totală, necondiţionată din partea unui străin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1800"/>
              </a:spcBef>
              <a:buClr>
                <a:srgbClr val="9e06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9e0623"/>
                </a:solidFill>
                <a:latin typeface="Times New Roman"/>
              </a:rPr>
              <a:t>NU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luaţi decizii sau hotărâri pripite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800"/>
              </a:spcBef>
              <a:buClr>
                <a:srgbClr val="9e06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9e0623"/>
                </a:solidFill>
                <a:latin typeface="Times New Roman"/>
              </a:rPr>
              <a:t>NU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vă dezvăluiţi sentimentele, dorinţele ascunse, slăbiciunile sau 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limitele în faţa oricui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800"/>
              </a:spcBef>
              <a:buClr>
                <a:srgbClr val="9e06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9e0623"/>
                </a:solidFill>
                <a:latin typeface="Times New Roman"/>
              </a:rPr>
              <a:t>NU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vă lăsaţi la cheremul lăcomiei şi al satisfacerii orgoliului 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propriu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800"/>
              </a:spcBef>
              <a:buClr>
                <a:srgbClr val="9e06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9e0623"/>
                </a:solidFill>
                <a:latin typeface="Times New Roman"/>
              </a:rPr>
              <a:t>NU 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sunt suficiente vociferările sau reacţiile emoţionale pentru 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contracararea actelor de inechita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190880" y="785880"/>
            <a:ext cx="70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5b5249"/>
                </a:solidFill>
                <a:latin typeface="Times New Roman"/>
              </a:rPr>
              <a:t>Tehnici de rezistenţă la manipular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533520" y="191628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</a:rPr>
              <a:t>Atenţie la: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cei care se erijează în autorităţi;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perspectiva din care alţii încearcă să prezinte o problemă;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regulile impuse de gazde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consecvenţa poate conduce la rigiditat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262520" y="765000"/>
            <a:ext cx="70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5b5249"/>
                </a:solidFill>
                <a:latin typeface="Times New Roman"/>
              </a:rPr>
              <a:t>Tehnici de rezistenţă la manipular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1189440" y="907920"/>
            <a:ext cx="21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5b5249"/>
                </a:solidFill>
                <a:latin typeface="Times New Roman"/>
              </a:rPr>
              <a:t>Întrebări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468360" y="2205000"/>
            <a:ext cx="867564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5b52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Puteţi identifica un manipulator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100"/>
              </a:spcBef>
              <a:buClr>
                <a:srgbClr val="5b52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Cât de des simţiţi că sunteţi manipulaţi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100"/>
              </a:spcBef>
              <a:buClr>
                <a:srgbClr val="5b52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Recurgeţi la tehnica manipulării deseori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1189440" y="90792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Conclu</a:t>
            </a:r>
            <a:r>
              <a:rPr b="1" lang="ro-RO" sz="3600" spc="-1" strike="noStrike">
                <a:solidFill>
                  <a:srgbClr val="5b5249"/>
                </a:solidFill>
                <a:latin typeface="Times New Roman"/>
              </a:rPr>
              <a:t>zii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68360" y="3141720"/>
            <a:ext cx="867564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5b52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Manipulatorii nu sunt o specie aparte de oameni. </a:t>
            </a: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ro-RO" sz="2800" spc="-1" strike="noStrike">
                <a:solidFill>
                  <a:srgbClr val="5b5249"/>
                </a:solidFill>
                <a:latin typeface="Times New Roman"/>
              </a:rPr>
              <a:t>Manipulatorii sunt printre noi..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100"/>
              </a:spcBef>
              <a:buClr>
                <a:srgbClr val="5b52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Nu e important să ai dreptate, important este să fii </a:t>
            </a: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ro-RO" sz="2800" spc="-1" strike="noStrike">
                <a:solidFill>
                  <a:srgbClr val="5b5249"/>
                </a:solidFill>
                <a:latin typeface="Times New Roman"/>
              </a:rPr>
              <a:t>CREDIBIL</a:t>
            </a: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!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6659640" y="549360"/>
            <a:ext cx="219060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468360" y="28321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buClr>
                <a:srgbClr val="4c584e"/>
              </a:buClr>
              <a:buFont typeface="Times New Roman"/>
              <a:buChar char="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5b5249"/>
                </a:solidFill>
                <a:latin typeface="Times New Roman"/>
              </a:rPr>
              <a:t>Succes</a:t>
            </a:r>
            <a:r>
              <a:rPr b="0" lang="ro-RO" sz="3200" spc="-1" strike="noStrike">
                <a:solidFill>
                  <a:srgbClr val="5b5249"/>
                </a:solidFill>
                <a:latin typeface="Times New Roman"/>
              </a:rPr>
              <a:t>! într-o lume a manipulării ..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1189440" y="907920"/>
            <a:ext cx="26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5b5249"/>
                </a:solidFill>
                <a:latin typeface="Times New Roman"/>
              </a:rPr>
              <a:t>Mulţumesc!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3565440" y="1674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5b5249"/>
                </a:solidFill>
                <a:latin typeface="Times New Roman"/>
              </a:rPr>
              <a:t>şi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1476360" y="3860640"/>
            <a:ext cx="76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i="1" lang="ro-RO" sz="2800" spc="-1" strike="noStrike">
                <a:solidFill>
                  <a:srgbClr val="5b5249"/>
                </a:solidFill>
                <a:latin typeface="Times New Roman"/>
              </a:rPr>
              <a:t>... Iar dacă aveţi impresia că veţi putea scăpa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5b5249"/>
                </a:solidFill>
                <a:latin typeface="Times New Roman"/>
              </a:rPr>
              <a:t>de manipulările celorlalţi..., vă înşelaţi amarnic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987640" y="1341000"/>
            <a:ext cx="59054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just">
              <a:lnSpc>
                <a:spcPct val="8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Identificarea principalelor cauze şi efecte ale diferitelor tipuri de manipula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3448080" y="2409840"/>
            <a:ext cx="224784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686880" y="765000"/>
            <a:ext cx="434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5b5249"/>
                </a:solidFill>
                <a:latin typeface="Times New Roman"/>
              </a:rPr>
              <a:t>Scopul prezentării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360036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 algn="just">
              <a:lnSpc>
                <a:spcPct val="9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Analiza fenomenului manipulării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 algn="just">
              <a:lnSpc>
                <a:spcPct val="9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Metode şi instrumente ale manipulării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 algn="just">
              <a:lnSpc>
                <a:spcPct val="9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Tehnici de manipula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 algn="just">
              <a:lnSpc>
                <a:spcPct val="9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Tehnici de rezistenţă la manipula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189440" y="949320"/>
            <a:ext cx="2410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Obiective</a:t>
            </a:r>
            <a:r>
              <a:rPr b="1" lang="ro-RO" sz="40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09480" y="8380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5b5249"/>
                </a:solidFill>
                <a:latin typeface="Times New Roman"/>
              </a:rPr>
              <a:t>Definiţii ale manipulării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250920" y="227664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r>
              <a:rPr b="0" lang="ro-RO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reare premeditată a unei situaţii sociale cu scopul de a influenţa reacţiile şi comportamentul manipulaţilor în scopul dorit de manipulanţi.</a:t>
            </a:r>
            <a:r>
              <a:rPr b="1" lang="en-GB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n-GB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211640" y="4221000"/>
            <a:ext cx="468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8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tehnică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e</a:t>
            </a: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 direcţion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re a</a:t>
            </a: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 opini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i</a:t>
            </a: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 public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</a:t>
            </a: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 într-un anumit  sens dorit şi bine preciza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.</a:t>
            </a:r>
            <a:r>
              <a:rPr b="0" lang="ro-RO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38386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84360" y="2492280"/>
            <a:ext cx="84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buClr>
                <a:srgbClr val="5b524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</a:rPr>
              <a:t>controlul comunicaţiilor umane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- cine controlează prezentul,  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controlează şi viitorul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5760" indent="-455760" algn="just">
              <a:buClr>
                <a:srgbClr val="5b524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</a:rPr>
              <a:t>manipularea mistică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- situarea grupului conducător sub o aureolă mistică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5760" indent="-455760" algn="just">
              <a:buClr>
                <a:srgbClr val="5b524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</a:rPr>
              <a:t>cerinţa de puritate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– delimitarea strictă bine / rău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5760" indent="-455760" algn="just">
              <a:buClr>
                <a:srgbClr val="5b524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</a:rPr>
              <a:t>cultul confesiunii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– conducerea subordonată religiei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5760" indent="-455760" algn="just">
              <a:buClr>
                <a:srgbClr val="5b524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</a:rPr>
              <a:t>ştiinţa sacră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– crearea unei surse sacre în jurul dogmelor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5760" indent="-455760" algn="just">
              <a:buClr>
                <a:srgbClr val="5b524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</a:rPr>
              <a:t>remodelarea limbajului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– limba de lemn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5760" indent="-455760" algn="just">
              <a:buClr>
                <a:srgbClr val="5b524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</a:rPr>
              <a:t>redefinirea limbajului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– anularea logicii şi deformarea realităţii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539640" y="817560"/>
            <a:ext cx="845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5b5249"/>
                </a:solidFill>
                <a:latin typeface="Times New Roman"/>
              </a:rPr>
              <a:t>Metode şi instrumente ale manipulării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489120" y="1484280"/>
            <a:ext cx="47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5b52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5b5249"/>
                </a:solidFill>
                <a:latin typeface="Times New Roman"/>
              </a:rPr>
              <a:t>au drept scop obţinerea controlulu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974880" y="836640"/>
            <a:ext cx="76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5b5249"/>
                </a:solidFill>
                <a:latin typeface="Times New Roman"/>
              </a:rPr>
              <a:t>Metode şi instrumente ale manipulării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57200" y="182880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buClr>
                <a:srgbClr val="5b5249"/>
              </a:buClr>
              <a:buFont typeface="Wingdings" charset="2"/>
              <a:buChar char="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octrina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mai presus de oameni şi invers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5b5249"/>
              </a:buClr>
              <a:buFont typeface="Wingdings" charset="2"/>
              <a:buChar char="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elimitarea socială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– o parte are drepturi şi o parte nu are 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ici un drept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5b5249"/>
              </a:buClr>
              <a:buFont typeface="Wingdings" charset="2"/>
              <a:buChar char="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parenţa libertăţii de decizie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5b5249"/>
              </a:buClr>
              <a:buFont typeface="Wingdings" charset="2"/>
              <a:buChar char="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rearea de stereotipii dinamice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5b5249"/>
              </a:buClr>
              <a:buFont typeface="Wingdings" charset="2"/>
              <a:buChar char="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pariţia în preajma unor 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ersoane foarte populare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5b5249"/>
              </a:buClr>
              <a:buFont typeface="Wingdings" charset="2"/>
              <a:buChar char="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nocularea fricii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(spaimei) faţă de părăsirea grupului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5b5249"/>
              </a:buClr>
              <a:buFont typeface="Wingdings" charset="2"/>
              <a:buChar char="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ontrolul limbajului şi al gândirii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5760" indent="-455760">
              <a:buClr>
                <a:srgbClr val="5b524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119240" y="765000"/>
            <a:ext cx="76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5b5249"/>
                </a:solidFill>
                <a:latin typeface="Times New Roman"/>
              </a:rPr>
              <a:t>Metode şi instrumente ale manipulării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68360" y="1916280"/>
            <a:ext cx="867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5b5249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opagarea de 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isonanţe cognitive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5b5249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pălarea creierului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5b5249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mesajele subliminale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5b5249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xagerarea uşoară a succeselor proprii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5b5249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mplificarea insucceselor celorlalţ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1628640"/>
            <a:ext cx="89647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buClr>
                <a:srgbClr val="5b524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00" spc="-1" strike="noStrike">
                <a:solidFill>
                  <a:srgbClr val="5b5249"/>
                </a:solidFill>
                <a:latin typeface="Times New Roman"/>
              </a:rPr>
              <a:t>    </a:t>
            </a:r>
            <a:r>
              <a:rPr b="0" lang="ro-RO" sz="7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o-RO" sz="7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reearea unei 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ormalităţi aparente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rearea 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mpresiei de competenţă, încredere şi siguranţă de sin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ietenia 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manipulatorului cu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victim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rearea unei 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umi iluzorii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 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pel la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sentimentele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celorlalţi, la emoţi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pecularea surselor de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teamă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nducerea sentimentului de 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vinovăţi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553480" y="907920"/>
            <a:ext cx="45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5b5249"/>
                </a:solidFill>
                <a:latin typeface="Times New Roman"/>
              </a:rPr>
              <a:t>Tehnici de manipular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7020000" y="4149720"/>
            <a:ext cx="18288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1844640"/>
            <a:ext cx="8686800" cy="37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determinarea celui manipulat de a 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</a:rPr>
              <a:t>alege ceea ce dorim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, convingerea acestuia că a procedat bine; inducerea celorlalţi de a face la fel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punerea cât mai multor 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</a:rPr>
              <a:t>piedici  în atingerea unui ţel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; focalizarea pe atingerea lui şi îndepărtarea de alte variante posibil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dorinţa manipulatorului de a se 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</a:rPr>
              <a:t>cufunda în anonimatul masei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şi de a învăţa din greşelile trecutului pentru a nu le mai repet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800"/>
              </a:spcBef>
              <a:buClr>
                <a:srgbClr val="5b52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nu se permite </a:t>
            </a:r>
            <a:r>
              <a:rPr b="1" lang="ro-RO" sz="2400" spc="-1" strike="noStrike">
                <a:solidFill>
                  <a:srgbClr val="5b5249"/>
                </a:solidFill>
                <a:latin typeface="Times New Roman"/>
              </a:rPr>
              <a:t>nicio împotrivire</a:t>
            </a:r>
            <a:r>
              <a:rPr b="0" lang="ro-RO" sz="2400" spc="-1" strike="noStrike">
                <a:solidFill>
                  <a:srgbClr val="5b5249"/>
                </a:solidFill>
                <a:latin typeface="Times New Roman"/>
              </a:rPr>
              <a:t> la regulile şi normele impus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198160" y="765000"/>
            <a:ext cx="45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5b5249"/>
                </a:solidFill>
                <a:latin typeface="Times New Roman"/>
              </a:rPr>
              <a:t>Tehnici de manipular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3:54:00Z</dcterms:created>
  <dc:creator>dorina</dc:creator>
  <dc:description/>
  <dc:language>en-US</dc:language>
  <cp:lastModifiedBy>user</cp:lastModifiedBy>
  <dcterms:modified xsi:type="dcterms:W3CDTF">2018-05-05T05:49:44Z</dcterms:modified>
  <cp:revision>16</cp:revision>
  <dc:subject/>
  <dc:title>Manipularea</dc:title>
</cp:coreProperties>
</file>